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D4D9-79D0-413D-AEE7-A45CB0E9D3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 poo es muy similar.  Existen diversos objetos que pueden interactuar entre si para lograr resolver un probl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431-460A-434C-A38F-0171CE21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8110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52320" y="3812760"/>
            <a:ext cx="8110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0D9-CCF0-428A-8529-0DD620FE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08520" y="106632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320" y="381276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08520" y="381276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660-ED55-4F96-B591-23089588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2611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94800" y="1066320"/>
            <a:ext cx="2611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37280" y="1066320"/>
            <a:ext cx="2611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52320" y="3812760"/>
            <a:ext cx="2611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94800" y="3812760"/>
            <a:ext cx="2611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37280" y="3812760"/>
            <a:ext cx="2611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9CF-9753-483E-BF26-F69AC233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F4CF-35FD-41EA-966C-5297AF1A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52320" y="10663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92C6-6A1B-41A9-99AD-A4EBDF87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BC4A-4CFD-4D79-BFFE-222F5D1B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395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8520" y="1066320"/>
            <a:ext cx="395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69C9-472F-4B4D-8EBF-C4E4AB09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C9CA-85B4-4248-A51A-DC8BF985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409320"/>
            <a:ext cx="81630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A206-7D94-454C-8496-34EB7F9B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520" y="1066320"/>
            <a:ext cx="395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2320" y="381276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878E-A6D8-4448-A01A-138237CB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52320" y="10663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DCB-F56A-4D9D-9B1B-A366BC07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395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08520" y="106632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08520" y="381276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15A1-9487-4AD4-BFD7-C1D9CC4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08520" y="106632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320" y="3812760"/>
            <a:ext cx="8110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5C01-9CCC-4148-8597-5BB6C673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8110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52320" y="3812760"/>
            <a:ext cx="8110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5628-36C0-4155-92D2-52E91E09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08520" y="106632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320" y="381276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08520" y="381276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4B30-F5DC-4019-9B6A-19FA3B29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2611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94800" y="1066320"/>
            <a:ext cx="2611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37280" y="1066320"/>
            <a:ext cx="2611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52320" y="3812760"/>
            <a:ext cx="2611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94800" y="3812760"/>
            <a:ext cx="2611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37280" y="3812760"/>
            <a:ext cx="2611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F56F-B018-4697-90A4-C5ED5306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304-679B-4589-868A-B6A600C9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395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8520" y="1066320"/>
            <a:ext cx="395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74E-98E2-4775-8D63-BF57245B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AB6-E4D4-4E42-AFF9-E7D88346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409320"/>
            <a:ext cx="81630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1AB-20D1-485E-9775-AB382C99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08520" y="1066320"/>
            <a:ext cx="395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320" y="381276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A4A-05FD-483D-AF35-79F278BD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395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8520" y="106632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08520" y="381276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CFB-8724-48B3-A7A3-540FB991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08520" y="1066320"/>
            <a:ext cx="3957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320" y="3812760"/>
            <a:ext cx="8110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100-6329-4B60-A9BC-62DCD52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915840"/>
              <a:ext cx="6950160" cy="7488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52320" y="10663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44C1-8CD4-4E9B-964E-21E68B33D84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947600"/>
            <a:ext cx="767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EA80-5B79-4783-BB70-5963ED8D8E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949400"/>
            <a:ext cx="767880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Programación Orientada a Objeto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maginemos que podemos controlar y comunicarnos con un árbol para decirle qu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realice alguna función 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nuestra conveniencia o no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e alguna información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sobre él.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funciones, actividades y extracción de información son operaciones que se pueden realizar utilizando los métodos.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Los Método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274320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recer (cambio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ocer su edad (solicitar info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En resume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Los objetos en la POO son como los objetos en la vida re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quellos que son del mismo tipo de objeto comparten características que varían únicamente en su val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ueden realizar acciones e interactuar con el med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-78120"/>
            <a:ext cx="8163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¿Qué es la programación orientada a objetos?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rogramación orientada a objetos (POO) trata de darle, de alguna manera, sentido a la creación de programas, trata de lograr que sean más lógicos, más fáciles de entender, más fáciles de hacer.  La forma en que lo logra es a través de la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táfora de obje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En concept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mundo está lleno de obje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s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r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erso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Ga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objetos pueden interactuar entre sí para lograr resolver un proble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4419720"/>
            <a:ext cx="12952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4343400"/>
            <a:ext cx="13716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4495680"/>
            <a:ext cx="12956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876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57440" y="44528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49720" y="4452840"/>
            <a:ext cx="107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le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En concept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ómo describirían un árbol de manera general?  ¿Qué elementos tien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1054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666880" y="3124080"/>
          <a:ext cx="26514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26514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248520" y="3124080"/>
            <a:ext cx="205740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o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aí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utas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En concepto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Éstos son los elementos que lo conforman, sus partes, en pocas palabras son sus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aracterísticas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.  Todos los árboles las compart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191120"/>
            <a:ext cx="7255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ribe ahora una palmer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l describir un tipo de árbol específico lo único que sucede es que se le dan valores a las características pero siempre son las mis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Los Atributo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l igual que los árboles los objetos tienen características.  A estas características se les conoce como 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tributos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atributos son los elementos que contienen los objetos que pueden llegar a tomar un valor (o diferentes valores)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Los Atributo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410544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721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6520" y="3505320"/>
          <a:ext cx="167616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16761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2102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800600" y="3505320"/>
          <a:ext cx="1471680" cy="24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505320"/>
                    <a:ext cx="14716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421020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543800" y="228600"/>
          <a:ext cx="812880" cy="14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228600"/>
                    <a:ext cx="8128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421020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6086520"/>
          <a:ext cx="723960" cy="77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86520"/>
                    <a:ext cx="7239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7315200" y="4419720"/>
          <a:ext cx="1554120" cy="215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419720"/>
                    <a:ext cx="155412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odos estos son árboles, la diferencia radica en los valores que tienen las características de cada uno, sus atribu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atributos van a permitir que cada objeto sea ún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Los Atributo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399564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066680" y="3733920"/>
          <a:ext cx="213372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733920"/>
                    <a:ext cx="21337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87684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876920" y="3809880"/>
          <a:ext cx="2361960" cy="187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809880"/>
                    <a:ext cx="236196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55627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295280" y="3352680"/>
          <a:ext cx="223704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352680"/>
                    <a:ext cx="22370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3200400" y="3124080"/>
            <a:ext cx="4809960" cy="2819520"/>
            <a:chOff x="3200400" y="3124080"/>
            <a:chExt cx="4809960" cy="2819520"/>
          </a:xfrm>
        </p:grpSpPr>
        <p:grpSp>
          <p:nvGrpSpPr>
            <p:cNvPr id="270" name=""/>
            <p:cNvGrpSpPr/>
            <p:nvPr/>
          </p:nvGrpSpPr>
          <p:grpSpPr>
            <a:xfrm>
              <a:off x="4910040" y="3124080"/>
              <a:ext cx="3100320" cy="2819520"/>
              <a:chOff x="4910040" y="3124080"/>
              <a:chExt cx="3100320" cy="2819520"/>
            </a:xfrm>
          </p:grpSpPr>
          <p:graphicFrame>
            <p:nvGraphicFramePr>
              <p:cNvPr id="271" name=""/>
              <p:cNvGraphicFramePr/>
              <p:nvPr/>
            </p:nvGraphicFramePr>
            <p:xfrm>
              <a:off x="4910040" y="3124080"/>
              <a:ext cx="2328840" cy="2819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910040" y="3124080"/>
                        <a:ext cx="2328840" cy="281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3" name=""/>
              <p:cNvSpPr/>
              <p:nvPr/>
            </p:nvSpPr>
            <p:spPr>
              <a:xfrm>
                <a:off x="6638040" y="4717800"/>
                <a:ext cx="137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ahoma"/>
                  </a:rPr>
                  <a:t>palme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200400" y="469044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quiere hacer una palmera lo que se tiene que hacer es el asignarle ciertos valores a los atributos de un objeto que le permitan ser una palm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40932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Verdana"/>
              </a:rPr>
              <a:t>Los Método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2320" y="1066320"/>
            <a:ext cx="811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tra característica de los objetos es que además de tener atributos cuentan con una forma de manipularlos, de poder aprovecharlos en diversos procesos o acciones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estas acciones se les conoce como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étod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on precisamente estos métodos los que le permiten a los objetos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actuar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ntre sí y con el resto del ambiente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22:48:50Z</dcterms:created>
  <dc:creator>E Olivares</dc:creator>
  <dc:description/>
  <dc:language>en-US</dc:language>
  <cp:lastModifiedBy>Antonio Mejorado</cp:lastModifiedBy>
  <dcterms:modified xsi:type="dcterms:W3CDTF">2004-04-13T18:29:44Z</dcterms:modified>
  <cp:revision>8</cp:revision>
  <dc:subject/>
  <dc:title>Programación Orientada a Objetos</dc:title>
</cp:coreProperties>
</file>