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6.wmf" ContentType="image/x-wmf"/>
  <Override PartName="/ppt/media/image23.wmf" ContentType="image/x-wmf"/>
  <Override PartName="/ppt/media/image22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BE8-9A44-48DD-8E97-742C2893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ADD-0B45-486E-80AE-12DB854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549-E8CE-4B20-9C5A-BDA24998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E27-EE11-40CD-BAF3-5C40969D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A919-3148-418C-8D9E-98CA4AF8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39CC-0114-486F-84F0-C911FDDC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53EB-A480-4028-8E77-F0504DD5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A1CE-030B-4E02-98CD-B2868353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FA13-2AC7-4567-823B-0D352FA0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AAA8-7AE3-4291-BA12-DEECAE80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62EE-D547-4FAE-903C-E48A39F4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F2A-A029-41B6-8A25-78EC6AE3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B411-126A-4EC1-8A3C-4600F9E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C394-65CF-48AE-8B8D-29ABE89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AF17-DE06-4CA4-9446-F965B1FF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F364-9D65-4EAB-9285-3DC9E678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F24D-EBFA-484B-8A84-D17D8B5D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368-08B7-4EE3-94A9-FCA668F0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21F-E8AA-4945-B065-1E234709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8FF-D1F5-4DF1-96E6-EBCD1011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B22-DE80-4EDB-AAF7-A481CB64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693-7535-487F-8B88-3A3258B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43A-1EFA-4B1A-A532-D8F91261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725D-793E-4B30-9121-23BA959F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825-5EEE-4BE5-A4A4-CD3CD1F914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BF23-07A3-4603-AFD7-63F8CD8917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602320" y="655560"/>
          <a:ext cx="2714760" cy="26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2320" y="655560"/>
                    <a:ext cx="271476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76360" y="1054080"/>
            <a:ext cx="3095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D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4244760" y="4892760"/>
            <a:ext cx="367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99cc99"/>
                </a:solidFill>
                <a:latin typeface="Arial Black"/>
              </a:rPr>
              <a:t>I N T E L I G E N C I A    A R T I F I C I A 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5680" y="6232680"/>
            <a:ext cx="16952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99"/>
                  </a:solidFill>
                  <a:miter/>
                </a:ln>
                <a:solidFill>
                  <a:srgbClr val="80c080"/>
                </a:solidFill>
                <a:latin typeface="Arial Black"/>
              </a:rPr>
              <a:t>EQUIPO  5</a:t>
            </a:r>
            <a:endParaRPr b="0" lang="en-US" sz="1800" spc="1" strike="noStrike">
              <a:ln w="19080">
                <a:solidFill>
                  <a:srgbClr val="99cc99"/>
                </a:solidFill>
                <a:miter/>
              </a:ln>
              <a:solidFill>
                <a:srgbClr val="80c080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89120" y="6237360"/>
            <a:ext cx="16956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99"/>
                  </a:solidFill>
                  <a:miter/>
                </a:ln>
                <a:solidFill>
                  <a:srgbClr val="80c080"/>
                </a:solidFill>
                <a:latin typeface="Arial Black"/>
              </a:rPr>
              <a:t>EQUIPO  5</a:t>
            </a:r>
            <a:endParaRPr b="0" lang="en-US" sz="1800" spc="1" strike="noStrike">
              <a:ln w="19080">
                <a:solidFill>
                  <a:srgbClr val="99cc99"/>
                </a:solidFill>
                <a:miter/>
              </a:ln>
              <a:solidFill>
                <a:srgbClr val="80c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754200" y="2293920"/>
          <a:ext cx="396216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293920"/>
                    <a:ext cx="396216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 txBox="1"/>
          <p:nvPr/>
        </p:nvSpPr>
        <p:spPr>
          <a:xfrm>
            <a:off x="1400040" y="1125360"/>
            <a:ext cx="634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MPERATURA... TEMPLAD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2637000"/>
            <a:ext cx="453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0.91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932360" y="4508640"/>
          <a:ext cx="4138560" cy="7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508640"/>
                    <a:ext cx="4138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754200" y="2293920"/>
          <a:ext cx="3962160" cy="46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2293920"/>
                    <a:ext cx="396216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 txBox="1"/>
          <p:nvPr/>
        </p:nvSpPr>
        <p:spPr>
          <a:xfrm>
            <a:off x="1400040" y="1125360"/>
            <a:ext cx="634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MPERATURA... FRI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256536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.8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788000" y="4508640"/>
          <a:ext cx="4138560" cy="7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508640"/>
                    <a:ext cx="4138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403280" y="1125360"/>
            <a:ext cx="63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TRIBUTO... TEMPERATUR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26370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(GRAL)=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4*I(p1,n1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6*I(p2,n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4*I(p3,n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)/14 = 0.91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1628640"/>
            <a:ext cx="67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(p1+n1)*I(p1,n1)+(p2+n2)*I(p2,n2)+...+(pv+nv)*I(pv,nv))/(p+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281480" y="3497400"/>
          <a:ext cx="4732200" cy="140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497400"/>
                    <a:ext cx="473220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132000" y="82440"/>
          <a:ext cx="5977080" cy="609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82440"/>
                    <a:ext cx="5977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4356000" y="544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Arial"/>
              </a:rPr>
              <a:t>.940-.911=.02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2278080"/>
          <a:ext cx="3311640" cy="4390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2278080"/>
                    <a:ext cx="33116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00040" y="1125360"/>
            <a:ext cx="634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UMEDAD... ALT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59280" y="2565360"/>
            <a:ext cx="453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789440" y="4513320"/>
          <a:ext cx="4137120" cy="42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9440" y="4513320"/>
                    <a:ext cx="41371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826920" y="2349360"/>
          <a:ext cx="3248280" cy="450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349360"/>
                    <a:ext cx="324828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400040" y="1125360"/>
            <a:ext cx="634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UMEDAD... NORMAL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59280" y="256536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.59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788000" y="4508640"/>
          <a:ext cx="4138560" cy="73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4508640"/>
                    <a:ext cx="4138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826920" y="2351160"/>
          <a:ext cx="3279960" cy="458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351160"/>
                    <a:ext cx="3279960" cy="45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403280" y="1125360"/>
            <a:ext cx="63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TRIBUTO... HUMEDA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26370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(GRAL)=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7*I(p1,n1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7*I(p2,n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)/1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= 0.788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1628640"/>
            <a:ext cx="67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(p1+n1)*I(p1,n1)+(p2+n2)*I(p2,n2)+...+(pv+nv)*I(pv,nv))/(p+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281480" y="3497400"/>
          <a:ext cx="4732200" cy="140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497400"/>
                    <a:ext cx="473220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132000" y="82440"/>
          <a:ext cx="5977080" cy="609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82440"/>
                    <a:ext cx="5977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356000" y="544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Arial"/>
              </a:rPr>
              <a:t>.940-.788=.15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2322360"/>
          <a:ext cx="3324240" cy="4600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322360"/>
                    <a:ext cx="332424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784080" y="2278080"/>
          <a:ext cx="2944800" cy="45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2278080"/>
                    <a:ext cx="29448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 txBox="1"/>
          <p:nvPr/>
        </p:nvSpPr>
        <p:spPr>
          <a:xfrm>
            <a:off x="1400040" y="1125360"/>
            <a:ext cx="634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ENTO... SI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59280" y="256536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788000" y="4508640"/>
          <a:ext cx="4138560" cy="7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508640"/>
                    <a:ext cx="4138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784080" y="2278080"/>
          <a:ext cx="296100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2278080"/>
                    <a:ext cx="2961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 txBox="1"/>
          <p:nvPr/>
        </p:nvSpPr>
        <p:spPr>
          <a:xfrm>
            <a:off x="1400040" y="1125360"/>
            <a:ext cx="634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IENTO... N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59280" y="256536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.8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788000" y="4508640"/>
          <a:ext cx="4138560" cy="7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508640"/>
                    <a:ext cx="4138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403280" y="1125360"/>
            <a:ext cx="63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TRIBUTO... VIENT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1640" y="26370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(GRAL)=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6*I(p1,n1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8*I(p2,n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)/1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= 0.89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1628640"/>
            <a:ext cx="67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(p1+n1)*I(p1,n1)+(p2+n2)*I(p2,n2)+...+(pv+nv)*I(pv,nv))/(p+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281480" y="3497400"/>
          <a:ext cx="4732200" cy="140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497400"/>
                    <a:ext cx="473220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132000" y="82440"/>
          <a:ext cx="5977080" cy="609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82440"/>
                    <a:ext cx="5977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356000" y="544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Arial"/>
              </a:rPr>
              <a:t>.940-.892=.04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84080" y="2278080"/>
          <a:ext cx="2961000" cy="4602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080" y="2278080"/>
                    <a:ext cx="296100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54920" y="2492280"/>
            <a:ext cx="1189080" cy="3673440"/>
          </a:xfrm>
          <a:prstGeom prst="rect">
            <a:avLst/>
          </a:prstGeom>
          <a:gradFill rotWithShape="0">
            <a:gsLst>
              <a:gs pos="0">
                <a:srgbClr val="ff9900">
                  <a:alpha val="74117"/>
                </a:srgbClr>
              </a:gs>
              <a:gs pos="100000">
                <a:srgbClr val="fefefe">
                  <a:alpha val="8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38920" y="2492280"/>
            <a:ext cx="1946160" cy="3673440"/>
          </a:xfrm>
          <a:prstGeom prst="rect">
            <a:avLst/>
          </a:prstGeom>
          <a:gradFill rotWithShape="0">
            <a:gsLst>
              <a:gs pos="0">
                <a:srgbClr val="cc99ff">
                  <a:alpha val="74117"/>
                </a:srgbClr>
              </a:gs>
              <a:gs pos="100000">
                <a:srgbClr val="fefefe">
                  <a:alpha val="8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78200" y="2490840"/>
            <a:ext cx="2089080" cy="3673440"/>
          </a:xfrm>
          <a:prstGeom prst="rect">
            <a:avLst/>
          </a:prstGeom>
          <a:gradFill rotWithShape="0">
            <a:gsLst>
              <a:gs pos="0">
                <a:srgbClr val="ffff00">
                  <a:alpha val="74117"/>
                </a:srgbClr>
              </a:gs>
              <a:gs pos="100000">
                <a:srgbClr val="fefefe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2492280"/>
            <a:ext cx="2089080" cy="3673440"/>
          </a:xfrm>
          <a:prstGeom prst="rect">
            <a:avLst/>
          </a:prstGeom>
          <a:gradFill rotWithShape="0">
            <a:gsLst>
              <a:gs pos="0">
                <a:srgbClr val="00ff00">
                  <a:alpha val="74117"/>
                </a:srgbClr>
              </a:gs>
              <a:gs pos="100000">
                <a:srgbClr val="fefefe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03280" y="1125360"/>
            <a:ext cx="63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ABULACION DE ATRIBUTO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3081240"/>
            <a:ext cx="1511640" cy="3682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SOLE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186080"/>
            <a:ext cx="1511640" cy="3682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UBL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5267160"/>
            <a:ext cx="1511640" cy="3682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LUVIOS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3467160"/>
            <a:ext cx="1512720" cy="3682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A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7280" y="4173480"/>
            <a:ext cx="1512720" cy="3682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MPL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4869000"/>
            <a:ext cx="1512720" cy="3682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573360"/>
            <a:ext cx="1440000" cy="3682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4581360"/>
            <a:ext cx="1440000" cy="3682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56720" y="3641760"/>
            <a:ext cx="1187280" cy="3070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6720" y="4649760"/>
            <a:ext cx="1187280" cy="307080"/>
          </a:xfrm>
          <a:prstGeom prst="rect">
            <a:avLst/>
          </a:prstGeom>
          <a:gradFill rotWithShape="0">
            <a:gsLst>
              <a:gs pos="0">
                <a:srgbClr val="d5f3f3"/>
              </a:gs>
              <a:gs pos="50000">
                <a:srgbClr val="33cccc"/>
              </a:gs>
              <a:gs pos="100000">
                <a:srgbClr val="d5f3f3"/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7" name=""/>
          <p:cNvCxnSpPr>
            <a:endCxn id="107" idx="1"/>
          </p:cNvCxnSpPr>
          <p:nvPr/>
        </p:nvCxnSpPr>
        <p:spPr>
          <a:xfrm flipV="1">
            <a:off x="1332000" y="3269880"/>
            <a:ext cx="576360" cy="1157760"/>
          </a:xfrm>
          <a:prstGeom prst="bentConnector3">
            <a:avLst>
              <a:gd name="adj1" fmla="val 49875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endCxn id="108" idx="1"/>
          </p:cNvCxnSpPr>
          <p:nvPr/>
        </p:nvCxnSpPr>
        <p:spPr>
          <a:xfrm flipV="1">
            <a:off x="1332000" y="4374720"/>
            <a:ext cx="576360" cy="53280"/>
          </a:xfrm>
          <a:prstGeom prst="bentConnector3">
            <a:avLst>
              <a:gd name="adj1" fmla="val 49875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endCxn id="109" idx="1"/>
          </p:cNvCxnSpPr>
          <p:nvPr/>
        </p:nvCxnSpPr>
        <p:spPr>
          <a:xfrm>
            <a:off x="1332000" y="4427280"/>
            <a:ext cx="576360" cy="1028880"/>
          </a:xfrm>
          <a:prstGeom prst="bentConnector3">
            <a:avLst>
              <a:gd name="adj1" fmla="val 49875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7" idx="3"/>
            <a:endCxn id="110" idx="1"/>
          </p:cNvCxnSpPr>
          <p:nvPr/>
        </p:nvCxnSpPr>
        <p:spPr>
          <a:xfrm>
            <a:off x="3419280" y="3270240"/>
            <a:ext cx="648360" cy="3866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7" idx="3"/>
            <a:endCxn id="111" idx="1"/>
          </p:cNvCxnSpPr>
          <p:nvPr/>
        </p:nvCxnSpPr>
        <p:spPr>
          <a:xfrm>
            <a:off x="3419280" y="3270240"/>
            <a:ext cx="648360" cy="109296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7" idx="3"/>
            <a:endCxn id="112" idx="1"/>
          </p:cNvCxnSpPr>
          <p:nvPr/>
        </p:nvCxnSpPr>
        <p:spPr>
          <a:xfrm>
            <a:off x="3419280" y="3269880"/>
            <a:ext cx="648360" cy="178812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8" idx="3"/>
            <a:endCxn id="110" idx="1"/>
          </p:cNvCxnSpPr>
          <p:nvPr/>
        </p:nvCxnSpPr>
        <p:spPr>
          <a:xfrm flipV="1">
            <a:off x="3419280" y="3655440"/>
            <a:ext cx="648360" cy="7196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8" idx="3"/>
            <a:endCxn id="111" idx="1"/>
          </p:cNvCxnSpPr>
          <p:nvPr/>
        </p:nvCxnSpPr>
        <p:spPr>
          <a:xfrm flipV="1">
            <a:off x="3419280" y="4361760"/>
            <a:ext cx="648360" cy="1332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8" idx="3"/>
            <a:endCxn id="112" idx="1"/>
          </p:cNvCxnSpPr>
          <p:nvPr/>
        </p:nvCxnSpPr>
        <p:spPr>
          <a:xfrm>
            <a:off x="3419280" y="4375080"/>
            <a:ext cx="648360" cy="68292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09" idx="3"/>
            <a:endCxn id="110" idx="1"/>
          </p:cNvCxnSpPr>
          <p:nvPr/>
        </p:nvCxnSpPr>
        <p:spPr>
          <a:xfrm flipV="1">
            <a:off x="3419280" y="3655800"/>
            <a:ext cx="648360" cy="180072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09" idx="3"/>
            <a:endCxn id="112" idx="1"/>
          </p:cNvCxnSpPr>
          <p:nvPr/>
        </p:nvCxnSpPr>
        <p:spPr>
          <a:xfrm flipV="1">
            <a:off x="3419280" y="5056920"/>
            <a:ext cx="648360" cy="399240"/>
          </a:xfrm>
          <a:prstGeom prst="bentConnector3">
            <a:avLst>
              <a:gd name="adj1" fmla="val 500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0" idx="3"/>
            <a:endCxn id="113" idx="1"/>
          </p:cNvCxnSpPr>
          <p:nvPr/>
        </p:nvCxnSpPr>
        <p:spPr>
          <a:xfrm>
            <a:off x="5579640" y="3655800"/>
            <a:ext cx="577080" cy="106920"/>
          </a:xfrm>
          <a:prstGeom prst="bentConnector3">
            <a:avLst>
              <a:gd name="adj1" fmla="val 49812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0" idx="3"/>
            <a:endCxn id="114" idx="1"/>
          </p:cNvCxnSpPr>
          <p:nvPr/>
        </p:nvCxnSpPr>
        <p:spPr>
          <a:xfrm>
            <a:off x="5579640" y="3655800"/>
            <a:ext cx="577080" cy="1114920"/>
          </a:xfrm>
          <a:prstGeom prst="bentConnector3">
            <a:avLst>
              <a:gd name="adj1" fmla="val 49812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14" idx="1"/>
          </p:cNvCxnSpPr>
          <p:nvPr/>
        </p:nvCxnSpPr>
        <p:spPr>
          <a:xfrm flipV="1">
            <a:off x="5579640" y="4770000"/>
            <a:ext cx="577080" cy="288000"/>
          </a:xfrm>
          <a:prstGeom prst="bentConnector3">
            <a:avLst>
              <a:gd name="adj1" fmla="val 49812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2" idx="3"/>
            <a:endCxn id="113" idx="1"/>
          </p:cNvCxnSpPr>
          <p:nvPr/>
        </p:nvCxnSpPr>
        <p:spPr>
          <a:xfrm flipV="1">
            <a:off x="5579640" y="3762000"/>
            <a:ext cx="577080" cy="1296000"/>
          </a:xfrm>
          <a:prstGeom prst="bentConnector3">
            <a:avLst>
              <a:gd name="adj1" fmla="val 49812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11" idx="3"/>
            <a:endCxn id="114" idx="1"/>
          </p:cNvCxnSpPr>
          <p:nvPr/>
        </p:nvCxnSpPr>
        <p:spPr>
          <a:xfrm>
            <a:off x="5579640" y="4362120"/>
            <a:ext cx="577080" cy="408600"/>
          </a:xfrm>
          <a:prstGeom prst="bentConnector3">
            <a:avLst>
              <a:gd name="adj1" fmla="val 49812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11" idx="3"/>
            <a:endCxn id="113" idx="1"/>
          </p:cNvCxnSpPr>
          <p:nvPr/>
        </p:nvCxnSpPr>
        <p:spPr>
          <a:xfrm flipV="1">
            <a:off x="5579640" y="3761640"/>
            <a:ext cx="577080" cy="600840"/>
          </a:xfrm>
          <a:prstGeom prst="bentConnector3">
            <a:avLst>
              <a:gd name="adj1" fmla="val 49812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13" idx="3"/>
            <a:endCxn id="115" idx="1"/>
          </p:cNvCxnSpPr>
          <p:nvPr/>
        </p:nvCxnSpPr>
        <p:spPr>
          <a:xfrm>
            <a:off x="7596000" y="3762000"/>
            <a:ext cx="361080" cy="37080"/>
          </a:xfrm>
          <a:prstGeom prst="bentConnector3">
            <a:avLst>
              <a:gd name="adj1" fmla="val 497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3" idx="3"/>
            <a:endCxn id="116" idx="1"/>
          </p:cNvCxnSpPr>
          <p:nvPr/>
        </p:nvCxnSpPr>
        <p:spPr>
          <a:xfrm>
            <a:off x="7596000" y="3762360"/>
            <a:ext cx="361080" cy="1045440"/>
          </a:xfrm>
          <a:prstGeom prst="bentConnector3">
            <a:avLst>
              <a:gd name="adj1" fmla="val 497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4" idx="3"/>
            <a:endCxn id="115" idx="1"/>
          </p:cNvCxnSpPr>
          <p:nvPr/>
        </p:nvCxnSpPr>
        <p:spPr>
          <a:xfrm flipV="1">
            <a:off x="7596000" y="3798000"/>
            <a:ext cx="361080" cy="972360"/>
          </a:xfrm>
          <a:prstGeom prst="bentConnector3">
            <a:avLst>
              <a:gd name="adj1" fmla="val 49700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137" name=""/>
          <p:cNvSpPr txBox="1"/>
          <p:nvPr/>
        </p:nvSpPr>
        <p:spPr>
          <a:xfrm>
            <a:off x="2124000" y="2494080"/>
            <a:ext cx="8859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851280" y="2492280"/>
            <a:ext cx="187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MPERATUR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83280" y="2494080"/>
            <a:ext cx="1657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UMED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099280" y="2494080"/>
            <a:ext cx="865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IENT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36640" y="2349360"/>
          <a:ext cx="107884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2349360"/>
                    <a:ext cx="107884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793800" y="6597720"/>
            <a:ext cx="1080144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03280" y="1125360"/>
            <a:ext cx="63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ABULACION DE ATRIBUTO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208320" y="3240"/>
          <a:ext cx="5775480" cy="27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8320" y="3240"/>
                    <a:ext cx="577548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26920" y="2708280"/>
            <a:ext cx="8317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(p,n) = -(p/(p + n))*LOG2(p/(p + n))-(n/(p + n))*LOG2(n/(p + n)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= TIPO DE CLASE 1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N= TIPO DE CLASE 2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(9,5) = -(9/(9 + 5))*LOG2(9/(9 + 5))-(5/(9 + 5))*LOG2(5/(9 + 5)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77840" y="5086440"/>
          <a:ext cx="7655040" cy="78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7840" y="5086440"/>
                    <a:ext cx="765504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 txBox="1"/>
          <p:nvPr/>
        </p:nvSpPr>
        <p:spPr>
          <a:xfrm>
            <a:off x="826920" y="1125360"/>
            <a:ext cx="224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TROPIA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838080" y="2343240"/>
          <a:ext cx="306720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43240"/>
                    <a:ext cx="30672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 txBox="1"/>
          <p:nvPr/>
        </p:nvSpPr>
        <p:spPr>
          <a:xfrm>
            <a:off x="1403280" y="1125360"/>
            <a:ext cx="63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LIMA... ASOLEAD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263700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097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52880" y="260280"/>
            <a:ext cx="59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(p/(p + n))*LOG2(p/(p + n))-(n/(p + n))*LOG2(n/(p + n)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284720" y="4365720"/>
          <a:ext cx="4464000" cy="64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365720"/>
                    <a:ext cx="4464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838080" y="2343240"/>
          <a:ext cx="3067200" cy="430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43240"/>
                    <a:ext cx="30672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 txBox="1"/>
          <p:nvPr/>
        </p:nvSpPr>
        <p:spPr>
          <a:xfrm>
            <a:off x="1403280" y="1125360"/>
            <a:ext cx="63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LIMA... NUBLAD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1640" y="263700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52880" y="260280"/>
            <a:ext cx="59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(p/(p + n))*LOG2(p/(p + n))-(n/(p + n))*LOG2(n/(p + n)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4720" y="4365720"/>
          <a:ext cx="4464000" cy="64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365720"/>
                    <a:ext cx="4464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841320" y="2336760"/>
          <a:ext cx="3078360" cy="436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336760"/>
                    <a:ext cx="307836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 txBox="1"/>
          <p:nvPr/>
        </p:nvSpPr>
        <p:spPr>
          <a:xfrm>
            <a:off x="1400040" y="1125360"/>
            <a:ext cx="634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LIMA... LLUVIOS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263700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0.97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52880" y="260280"/>
            <a:ext cx="596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(p/(p + n))*LOG2(p/(p + n))-(n/(p + n))*LOG2(n/(p + n)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284720" y="4365720"/>
          <a:ext cx="4464000" cy="64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365720"/>
                    <a:ext cx="4464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841320" y="2336760"/>
          <a:ext cx="3135240" cy="43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336760"/>
                    <a:ext cx="313524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 txBox="1"/>
          <p:nvPr/>
        </p:nvSpPr>
        <p:spPr>
          <a:xfrm>
            <a:off x="1403280" y="1125360"/>
            <a:ext cx="6343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TRIBUTO... CLIM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26370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(GRAL)=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808000"/>
                </a:solidFill>
                <a:latin typeface="Arial"/>
              </a:rPr>
              <a:t>5*I(p1,n1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*I(p2,n2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9933ff"/>
                </a:solidFill>
                <a:latin typeface="Arial"/>
              </a:rPr>
              <a:t>5*I(p3,n3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))/14 = 0.69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1628640"/>
            <a:ext cx="67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(p1+n1)*I(p1,n1)+(p2+n2)*I(p2,n2)+...+(pv+nv)*I(pv,nv))/(p+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281480" y="3497400"/>
          <a:ext cx="4732200" cy="137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1480" y="3497400"/>
                    <a:ext cx="473220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132000" y="82440"/>
          <a:ext cx="5977080" cy="609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82440"/>
                    <a:ext cx="5977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356000" y="544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Arial"/>
              </a:rPr>
              <a:t>.940-.693=.24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55640" y="2297160"/>
          <a:ext cx="3456000" cy="456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97160"/>
                    <a:ext cx="34560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 txBox="1"/>
          <p:nvPr/>
        </p:nvSpPr>
        <p:spPr>
          <a:xfrm>
            <a:off x="1400040" y="1125360"/>
            <a:ext cx="6343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MPERATURA... CALIENT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263700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=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=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(P,N)=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4720" y="4508640"/>
          <a:ext cx="4138560" cy="7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508640"/>
                    <a:ext cx="41385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9T16:49:22Z</dcterms:created>
  <dc:creator>PC3</dc:creator>
  <dc:description/>
  <dc:language>en-US</dc:language>
  <cp:lastModifiedBy>Marcos</cp:lastModifiedBy>
  <dcterms:modified xsi:type="dcterms:W3CDTF">2005-10-31T16:56:59Z</dcterms:modified>
  <cp:revision>9</cp:revision>
  <dc:subject/>
  <dc:title>Slide 1</dc:title>
</cp:coreProperties>
</file>