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780D-ACE7-4207-BF9A-9FBFF885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9A923-8936-4DDA-A44F-E210201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F055-610D-4C96-B36A-03337F70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6EFD-96D8-4D90-AD29-31BC745F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C38C-3734-4188-A9BA-0E987D58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21E-4B4B-4204-8242-214CFDD2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97B7-F5F0-449D-A480-CD498D6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E9D7-E56C-46D4-8350-10302DD2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FF52-C597-4DD9-8663-EFC1CA5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E01-FFD8-45F0-96BF-26B03D0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1D7B-782D-49DB-A51C-D8C4FBF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6B5C-C544-48E3-937B-20FEE714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CEA-CE51-453C-BEA8-4681308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466D-EC59-4DC7-B729-E877016F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7FD-16E2-4602-8C66-1F045BA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C95-DE93-44B7-BCFC-5DE91492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ED33-F14C-404A-8CA0-0D48C906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D7BA-5289-48AB-B5CE-A1BE086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99E3-6D9C-47BF-9017-12A177A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1E18-607A-4409-8B37-C4B1E974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D180-A930-4CD2-AC47-B8CC4523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10D1-A6E5-424D-929D-8581FA8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039D-6E59-45FC-838A-2F16BA89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0774-3BF0-40BB-A65D-457FCF5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103-B8AD-447F-B32D-E707697A266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D6C9-2839-4BF9-A781-73816294C45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LGORITMOS  ID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Un árbol de decisión, clasifica a un a un ejemplar filtrándolo de manera descendiente, hasta encontrar una hoja , que corresponda a la clasificación buscada.</a:t>
            </a:r>
            <a:br>
              <a:rPr sz="2900"/>
            </a:b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sidere el siguiente ejemplo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 (cielo = soleado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(Temp. = caliente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 (humedad = alta)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 (viento = alto)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JEMPL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461960"/>
            <a:ext cx="88200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* Desarrollado por J. Ross Quilan en 1983</a:t>
            </a:r>
            <a:br>
              <a:rPr sz="4200"/>
            </a:b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 * ID3 Significa induction decisión trees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JETIVO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struir un árbol de decisión que explique cada instancia de la secuencia de entrada de la manera mas compacta posible a partir de una tabla de inducción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En cada momento elige el mejor atributo dependiendo de una determinada heurística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Determina las variables que portan información relevantes para la solución del problem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CONVENIENTES </a:t>
            </a:r>
            <a:br>
              <a:rPr sz="4200"/>
            </a:br>
            <a:br>
              <a:rPr sz="42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avorece indirectamente a aquellos atributos con muchos valores, los cuales no tienen que ser los mas útiles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Genera árboles de decisión a partir de ejemplos de apartida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Generación de grandes árboles de decisión que no representan garantía de reglas eficientes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Aplicables solo a problemas de clasificación y diagnostico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Puede aplicarse a cualquier conjunto de datos siempre y cuando las variables sean discretas . Este sistema no cuenta con la facilidad de trabajar con variables continuas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RACTERISTICAS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rear un árbol de decisión como  un método para aproximar una función objetiva de valores discretos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El resultado puede expresarse como un conjunto de reglas si-entonces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Intenta encontrar el árbol mas sencillo que separa mejor los ejemplos.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Es recursivo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No se realiza backtracking</a:t>
            </a:r>
            <a:br>
              <a:rPr sz="3200"/>
            </a:br>
            <a:r>
              <a:rPr b="0" lang="es-ES" sz="3200" spc="-1" strike="noStrike">
                <a:solidFill>
                  <a:srgbClr val="ffffcc"/>
                </a:solidFill>
                <a:latin typeface="Tahoma"/>
              </a:rPr>
              <a:t>Utiliza la entropía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02:58Z</dcterms:created>
  <dc:creator>cantu</dc:creator>
  <dc:description/>
  <dc:language>en-US</dc:language>
  <cp:lastModifiedBy>Marcos</cp:lastModifiedBy>
  <dcterms:modified xsi:type="dcterms:W3CDTF">2005-10-31T15:21:48Z</dcterms:modified>
  <cp:revision>5</cp:revision>
  <dc:subject/>
  <dc:title>ALGORITMOS  ID3</dc:title>
</cp:coreProperties>
</file>